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0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8.png" ContentType="image/png"/>
  <Override PartName="/ppt/media/image14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5E8D-2504-47B3-83EE-248FB7A1E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68B-B846-445A-8388-6C5CB3C9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1DE-943D-44E6-91A8-292D99A6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7A7-A82B-4931-A18B-8195FF39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878E-30D6-45C9-9E31-D8A28C87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B33F-9926-4E35-AF5B-BCF292C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2082-4FA6-416A-AA7D-5D6E8954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944F-32D6-43C4-874B-5899D84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6ABF-A07B-48CC-BCF1-7AD6810E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8180-FE41-4EF6-ABE8-1D01D1CF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584B-5DDA-4266-98F3-92A302A6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D41-8387-4843-939E-87AC578D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E08C-DF8A-4000-8A77-1030D62C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7140-9B94-4DAF-840F-56A67CA9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8F2-6B56-4966-A307-791D00AF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82E-D2D4-4C62-9741-490CFD6E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C026-C19F-48E5-9712-2B2E3CA9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4C3-EA6C-47E7-8ED6-E875C384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A70-DFB4-4521-8698-0C2216E5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66B-3183-466C-99FA-E4176797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0B2-89EC-4787-A8A8-E3FCCF8C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D542-4238-4837-8AE3-BEAC2CF4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F526-C934-421D-BF27-1E5BDD5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D5C-EB3A-4046-B5DD-56B867B3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DFD3-62F9-4AB3-9904-AAAF3F86C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FF4A-412B-490E-8B66-342D0F1977C4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Якушенко Валент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8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МОУ Ярковская СО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Black"/>
              </a:rPr>
              <a:t>2009 го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WordArt 4"/>
          <p:cNvSpPr txBox="1"/>
          <p:nvPr/>
        </p:nvSpPr>
        <p:spPr>
          <a:xfrm>
            <a:off x="468360" y="549360"/>
            <a:ext cx="8244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ктическое применение теоремы Пифагор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92280"/>
            <a:ext cx="7381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троительство и                                               архитектура.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Rectangle 10" descr="Рисунок к доказательству: Очень легко можно воспроизвести..."/>
          <p:cNvPicPr/>
          <p:nvPr/>
        </p:nvPicPr>
        <p:blipFill>
          <a:blip r:embed="rId1"/>
          <a:stretch/>
        </p:blipFill>
        <p:spPr>
          <a:xfrm rot="16200000">
            <a:off x="2814480" y="758520"/>
            <a:ext cx="4162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45344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кна в готической и романской архитектуре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use04"/>
          <p:cNvPicPr/>
          <p:nvPr/>
        </p:nvPicPr>
        <p:blipFill>
          <a:blip r:embed="rId1"/>
          <a:stretch/>
        </p:blipFill>
        <p:spPr>
          <a:xfrm>
            <a:off x="826920" y="2565360"/>
            <a:ext cx="2016360" cy="3575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use05"/>
          <p:cNvPicPr/>
          <p:nvPr/>
        </p:nvPicPr>
        <p:blipFill>
          <a:blip r:embed="rId2"/>
          <a:stretch/>
        </p:blipFill>
        <p:spPr>
          <a:xfrm>
            <a:off x="6156360" y="3500280"/>
            <a:ext cx="2808360" cy="1762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rom"/>
          <p:cNvPicPr/>
          <p:nvPr/>
        </p:nvPicPr>
        <p:blipFill>
          <a:blip r:embed="rId3"/>
          <a:stretch/>
        </p:blipFill>
        <p:spPr>
          <a:xfrm>
            <a:off x="3132000" y="2708280"/>
            <a:ext cx="28148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оительство крыш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c1c1c"/>
                </a:solidFill>
                <a:latin typeface="Arial"/>
                <a:ea typeface="Times New Roman"/>
              </a:rPr>
              <a:t>     </a:t>
            </a:r>
            <a:r>
              <a:rPr b="1" i="1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Треугольник ADC - равнобедренный AB=BC=4 м., BF=4 м. Если предположить, что FD=1,5 м., тогд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а) Из треугольника DBC: DB=2,5 м.,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     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     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в) Из треугольника AB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                                      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ahoma"/>
              </a:rPr>
              <a:t>√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Tahoma"/>
              </a:rPr>
              <a:t>²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ahoma"/>
              </a:rPr>
              <a:t>+4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  <a:ea typeface="Tahoma"/>
              </a:rPr>
              <a:t>²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  <a:ea typeface="Tahoma"/>
              </a:rPr>
              <a:t>=√32≈</a:t>
            </a:r>
            <a:r>
              <a:rPr b="0" lang="ru-RU" sz="2400" spc="-1" strike="noStrike">
                <a:solidFill>
                  <a:srgbClr val="1c1c1c"/>
                </a:solidFill>
                <a:latin typeface="Arial"/>
              </a:rPr>
              <a:t>5,7 м.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796000" y="4076640"/>
            <a:ext cx="2305080" cy="1008000"/>
          </a:xfrm>
          <a:prstGeom prst="triangle">
            <a:avLst>
              <a:gd name="adj" fmla="val 50000"/>
            </a:avLst>
          </a:prstGeom>
          <a:solidFill>
            <a:srgbClr val="b3e7a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6948360" y="40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51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364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831708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51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867280" y="4436640"/>
            <a:ext cx="10810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6948360" y="4437000"/>
            <a:ext cx="1152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020000" y="4149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Установка ёл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Rectangle 10" descr=""/>
          <p:cNvPicPr/>
          <p:nvPr/>
        </p:nvPicPr>
        <p:blipFill>
          <a:blip r:embed="rId1"/>
          <a:stretch/>
        </p:blipFill>
        <p:spPr>
          <a:xfrm>
            <a:off x="4575240" y="1628640"/>
            <a:ext cx="43592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4720" y="1700280"/>
            <a:ext cx="3462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олниеотвод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ешение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теореме Пифагора h² ≥ a²+b², значит h ≥ √(a²+b²)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 ≥ √(a²+b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oblast31"/>
          <p:cNvPicPr/>
          <p:nvPr/>
        </p:nvPicPr>
        <p:blipFill>
          <a:blip r:embed="rId1"/>
          <a:stretch/>
        </p:blipFill>
        <p:spPr>
          <a:xfrm>
            <a:off x="2411280" y="3619440"/>
            <a:ext cx="4824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31760"/>
            <a:ext cx="8569440" cy="637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Молниеотвод на крыше д/сада «Незабудка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Rectangle 10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5473440" cy="1824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47640" y="3141720"/>
            <a:ext cx="53280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обильная связь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ую наименьшую высоту должна иметь вышка мобильной связи, поставленной в селе Утянка, чтобы село Ярки попало в зону связи (расстояние от вышки до Ярков по прямой 10 км.)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уя теорему Пифагора и провед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четы, я получил, что высота вышк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 должна быть 0,008 км. или 8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4" descr="oblast32"/>
          <p:cNvPicPr/>
          <p:nvPr/>
        </p:nvPicPr>
        <p:blipFill>
          <a:blip r:embed="rId1"/>
          <a:stretch/>
        </p:blipFill>
        <p:spPr>
          <a:xfrm>
            <a:off x="6219720" y="3500280"/>
            <a:ext cx="26193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ывод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обретение навыка работы с литературными источника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обретение навыка поиска нужного материала в Интернете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лся работать с большим объёмом информации, отбирать нужную информацию, выбирать самое главное, анализировать и делать выво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бота способствовала развитию коммуникативных и презентационных умений, что очень важно в наше врем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бота помогла показать практическую значимость теоретического материа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1125360"/>
            <a:ext cx="489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Гипотез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71640" y="3789360"/>
            <a:ext cx="388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333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333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779920"/>
            <a:ext cx="882000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 помощью теоремы Пифагора можно решать не только математические задач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122840" y="5039280"/>
            <a:ext cx="79639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яснить области применения теоремы Пифагор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брать информацию о практическом применении теоремы Пифагора в различных источниках и определить области применения теорем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зучить некоторые исторические сведения о Пифагоре и о его теорем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казать применение теоремы при решении исторических задач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ести измерения крыши детского садика, решить прикладные задачи по установке ёлки и молниеотвод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работать собранные данные по тем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-5421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формить наработанный материал в виде проек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42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анкетирования учащихс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03280" y="1968480"/>
          <a:ext cx="6408720" cy="42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68480"/>
                    <a:ext cx="640872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анкетирования  учителей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3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Rectangle 10"/>
          <p:cNvGraphicFramePr/>
          <p:nvPr/>
        </p:nvGraphicFramePr>
        <p:xfrm>
          <a:off x="1547640" y="1992240"/>
          <a:ext cx="676944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Rectangle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92240"/>
                    <a:ext cx="676944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Результаты анкетирования родителей  учащихся 8 класс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619280" y="1798560"/>
          <a:ext cx="6624720" cy="44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798560"/>
                    <a:ext cx="662472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ифаг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Rectangle 10" descr="Пифагор"/>
          <p:cNvPicPr/>
          <p:nvPr/>
        </p:nvPicPr>
        <p:blipFill>
          <a:blip r:embed="rId1"/>
          <a:stretch/>
        </p:blipFill>
        <p:spPr>
          <a:xfrm>
            <a:off x="2852640" y="1844640"/>
            <a:ext cx="3684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мотри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Rectangle 10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116000" y="2100240"/>
            <a:ext cx="7704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20605"/>
          <p:cNvPicPr/>
          <p:nvPr/>
        </p:nvPicPr>
        <p:blipFill>
          <a:blip r:embed="rId1"/>
          <a:stretch/>
        </p:blipFill>
        <p:spPr>
          <a:xfrm>
            <a:off x="468360" y="2349360"/>
            <a:ext cx="3313080" cy="3889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2895480" y="56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826920" y="404640"/>
            <a:ext cx="799308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а из учебника "Арифметика" Леонтия Магницкого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924360" y="2276640"/>
            <a:ext cx="4897440" cy="46886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ится некому человеку к стене лестницу прибрати, стены же тоя высота есть 117 стоп. И обреете лестницу долготью 125 стоп. И ведати хочет, колико стоп сея лестницы нижний конец от стены отстояти имать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ВС²=АВ²-АС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5625-13689=44 стоп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:ВС=44 стоп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7:39:06Z</dcterms:created>
  <dc:creator>ADMIN</dc:creator>
  <dc:description/>
  <dc:language>en-US</dc:language>
  <cp:lastModifiedBy>shcool</cp:lastModifiedBy>
  <dcterms:modified xsi:type="dcterms:W3CDTF">2010-01-13T02:55:20Z</dcterms:modified>
  <cp:revision>35</cp:revision>
  <dc:subject/>
  <dc:title>Практическое применение теоремы Пифагора</dc:title>
</cp:coreProperties>
</file>